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075E-86F7-4361-8113-B8E14B66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FFBB-E74C-44D5-B6AF-E99970D8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2540-1C57-4061-A9A0-E26ED514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DDCB-08C7-48C2-9CD2-93A8A729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78B5-B10B-4AC6-8F7A-8CA6CAFF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7872-8D30-4E3F-8D9F-EA37B1C3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2031-A793-4A50-8965-F9F804BB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8E25-8EF5-4A7A-AE34-060AB0A8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0620-5062-493B-BE66-651688DB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5518-F1FD-45D5-9A5C-76B990BC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BFA2-BD8C-444B-A537-1A6F040D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AD6F-979F-4D94-A5DD-9E61B97F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DF6D-E9C9-4B9C-A516-36368102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DF82-FD03-4B80-BAD7-27FE7547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E302-5883-4E23-BC54-1A706ADD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D754-9BE6-4D8A-B1B0-EF08994D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ED9B-4B8C-49A4-8D46-775BD010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DFED-2E26-4ACE-8867-DA2CBBA3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6EF8-2F2F-4238-818D-8F78DA29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823F-2B5C-4EDC-B00A-23EF5C48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32EF-639A-4585-BEB8-7C09D905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1FAC-E5E4-45DB-B273-03D4EC6E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9883-E25B-4CAD-B663-48845517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13E5-05F7-448F-8DE1-846A30A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BB89-BE28-491E-80E3-C91DEC714B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FEB6-E13D-486E-9083-9AC109C933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aexam.ru/" TargetMode="External"/><Relationship Id="rId2" Type="http://schemas.openxmlformats.org/officeDocument/2006/relationships/hyperlink" Target="http://www.wikipedia.ru/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Служебные части речи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убярова Л.А., студентка 4 курса 342гр., фил. фа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ыктывкар, 2010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Этапы проведения проект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Выбор тем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Поиск информац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Консультация преподавател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Самостоятельная работа учащихс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Защита проект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Информационные ресурс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naexam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www.gramota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www.pedia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wikipedia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правочник школьника. Русский язы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д ред. В.Славкина – М., 1999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812000" y="486900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5f519"/>
                </a:solidFill>
                <a:latin typeface="Garamond"/>
              </a:rPr>
              <a:t>Р.</a:t>
            </a:r>
            <a:r>
              <a:rPr b="1" lang="en-US" sz="5400" spc="-1" strike="noStrike">
                <a:solidFill>
                  <a:srgbClr val="f5f519"/>
                </a:solidFill>
                <a:latin typeface="Garamond"/>
              </a:rPr>
              <a:t>S</a:t>
            </a:r>
            <a:r>
              <a:rPr b="1" lang="ru-RU" sz="5400" spc="-1" strike="noStrike">
                <a:solidFill>
                  <a:srgbClr val="f5f519"/>
                </a:solidFill>
                <a:latin typeface="Garamond"/>
              </a:rPr>
              <a:t>.: Удачи и успеха в работе над проектами!!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сновной вопрос нашего проект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Может ли главное существовать без служебного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Какие служебные части речи есть в современном русском языке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Какие основные признаки характерны для служебных частей речи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Какова основная роль союза как служебной части речи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.Зачем нужны частицы в современном русском языке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На какие разряды делятся частицы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5.Какова основная роль предлога как служебной части речи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Дидактические цели проект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оздать условия для самовыражения каждого учащегос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азвить творческий потенциал дет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формировать у учащихся чувство самостоятельности и ответственнос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аучить учащихся формам групповой и фронтальной работы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Методические задач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Научить учащихся отличать служебные части речи от самостоятельных частей реч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Показать союз как служебную часть речи, его роль в предложении. Сформировать умение определять роль союз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Показать основные признаки частицы как служебной части реч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Показать роль предлога в современном русском язы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Мы будем изучать следующие служебные части реч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Частиц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Предло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Сою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фото-репорта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букл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веб-сай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сочинение или эс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презентации доклад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инсцениров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кроссвор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формулировка правила (в таблице, схем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творческая презентац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журн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стат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видеокли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Распределение по групп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26920" y="1413000"/>
          <a:ext cx="7859880" cy="4690800"/>
        </p:xfrm>
        <a:graphic>
          <a:graphicData uri="http://schemas.openxmlformats.org/drawingml/2006/table">
            <a:tbl>
              <a:tblPr/>
              <a:tblGrid>
                <a:gridCol w="1008360"/>
                <a:gridCol w="4232160"/>
                <a:gridCol w="261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 изу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стники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лужебные части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ица как служебная часть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лог как служебная часть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юз как служебная часть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Продолжительность проекта</a:t>
            </a: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оект рассчитан на две недел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сего 5 ча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сего часов на самостоятельную работ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10 ча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ма: Служебные части речи (1 ч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ма: Частица как служебная часть речи (1 ч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ма: Предлог как служебная часть речи (1 ч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ма: Союз как служебная часть речи (1 ч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12:51Z</dcterms:created>
  <dc:creator>SamLab.ws</dc:creator>
  <dc:description/>
  <dc:language>en-US</dc:language>
  <cp:lastModifiedBy>SamLab.ws</cp:lastModifiedBy>
  <dcterms:modified xsi:type="dcterms:W3CDTF">2010-04-21T10:16:34Z</dcterms:modified>
  <cp:revision>7</cp:revision>
  <dc:subject/>
  <dc:title>Служебные части речи.</dc:title>
</cp:coreProperties>
</file>